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9E4-29DC-48E1-9A9A-3666510E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8F8-77DC-45FE-82D0-5D4723C7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D25-DA0C-41CC-9EB4-0003BF16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BFD-8416-481A-8EA7-A98A2B7F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BC5-2E5E-467E-A455-ADFC4E46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793-62C5-4AA3-8DAB-D2E30557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ECB-C38A-4472-A4BA-62A0C817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C61-DEBC-4B4F-90FE-B76181F1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F7F-678A-4451-A572-262EB680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520-7EBA-4FD8-9065-37982C7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050-9602-4E50-A2B9-A1A098AF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4E5-888E-4D71-B631-47001E4E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1F55-FBA6-474E-A021-B8F05A9FB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менск-Уральский  учитель СОШ № 3 им. П.И. Беляева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ршова Еле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moikompas.ru/img/compas/2008-03-25/bezopasnost_deti/52149311_orig.jpg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Ершова Е.Г., классный руководитель 6 класса, учитель СОШ № 3, г. Каменск-Уральск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User</cp:lastModifiedBy>
  <dcterms:modified xsi:type="dcterms:W3CDTF">2018-11-22T10:01:54Z</dcterms:modified>
  <cp:revision>66</cp:revision>
  <dc:subject/>
  <dc:title>Слайд 1</dc:title>
</cp:coreProperties>
</file>